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12.gif" ContentType="image/gif"/>
  <Override PartName="/ppt/media/image3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37.jpeg" ContentType="image/jpeg"/>
  <Override PartName="/ppt/media/image3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99B-531B-408F-AE5C-B14B45B2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B0E-7781-42D2-A30A-F152AEF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E04-4C1B-465D-B2B0-102A4C30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124-E5C7-4FE3-B17F-FA377AB6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A023-8C64-4223-B7C9-5A95175F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17E3-8FCB-4B0E-B8A9-796FE21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18CB-878A-45B7-96D3-17741641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0E1-3E3C-47F4-B050-0EFF511C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0F62-2015-4F17-BFA5-CA97AE83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D9F-1EE2-42F7-A48B-FC76BD9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55AA-A834-4B88-86A8-10636015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A4D-D0AD-4D88-BCCA-48BC321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897A-FFEA-4A36-BAC2-0F3E6A1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EED-AE43-4E34-954E-FCE66F72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439-A16D-4F2D-A22C-1155F194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66C-B632-47D3-A537-20DADBF7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8307-D383-4358-A30C-D1AA046D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275-62B2-4999-8878-F15DD7B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7E5-FCED-47D7-8E7D-3F6C0C2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A55-0FA7-4771-AFA4-6480B117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131-A730-4942-A4B6-B5365E65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A9A-DC53-42DE-B15E-C4541F8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22D-9B28-4B52-B280-89E6C2A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BB4-5227-488E-A033-E27B7DB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D36F-0F7B-4544-B21B-75321CA55C28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447920" y="1371600"/>
            <a:ext cx="62481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17524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54B-FE4D-41B9-96A7-7EFA28FC2C98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db9c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db9c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search.yahoo.com/" TargetMode="External"/><Relationship Id="rId3" Type="http://schemas.openxmlformats.org/officeDocument/2006/relationships/hyperlink" Target="http://images.search.yahoo.com/" TargetMode="External"/><Relationship Id="rId4" Type="http://schemas.openxmlformats.org/officeDocument/2006/relationships/hyperlink" Target="http://office.microsoft.com/clipart" TargetMode="External"/><Relationship Id="rId5" Type="http://schemas.openxmlformats.org/officeDocument/2006/relationships/hyperlink" Target="http://office.microsoft.com/clipart" TargetMode="External"/><Relationship Id="rId6" Type="http://schemas.openxmlformats.org/officeDocument/2006/relationships/hyperlink" Target="http://office.microsoft.com/clipart" TargetMode="External"/><Relationship Id="rId7" Type="http://schemas.openxmlformats.org/officeDocument/2006/relationships/hyperlink" Target="http://soniacoleman.org/Tutorials/PowerPointTemplates/templates1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hyperlink" Target="http://www.enchantedlearning.com/language/english/label/daysky/answers.shtml" TargetMode="External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adb9c0"/>
                </a:solidFill>
                <a:latin typeface="Arial"/>
              </a:rPr>
              <a:t>Earth’s Weather</a:t>
            </a:r>
            <a:endParaRPr b="1" lang="en-US" sz="73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b9c0"/>
                </a:solidFill>
                <a:latin typeface="Arial"/>
              </a:rPr>
              <a:t>by Denise Carroll</a:t>
            </a:r>
            <a:endParaRPr b="0" lang="en-US" sz="36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Measuring Weather Condi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Tru-Check Direct Reading Rain Gauge"/>
          <p:cNvPicPr/>
          <p:nvPr/>
        </p:nvPicPr>
        <p:blipFill>
          <a:blip r:embed="rId3"/>
          <a:stretch/>
        </p:blipFill>
        <p:spPr>
          <a:xfrm>
            <a:off x="6934320" y="19810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0" t="0" r="11116" b="19449"/>
          <a:stretch/>
        </p:blipFill>
        <p:spPr>
          <a:xfrm>
            <a:off x="7010280" y="4800600"/>
            <a:ext cx="145116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809880" y="5486400"/>
            <a:ext cx="1486080" cy="1057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143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hermometer 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measures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emperatur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, or how hot or cold the air 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3886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n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anemometer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fast the wind is </a:t>
            </a:r>
            <a:br>
              <a:rPr sz="2200"/>
            </a:b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blo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1430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rain gaug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much rain or snow has fal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962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wind van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shows which direction the wind is blowing. It points to the direction the wind is coming fr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123336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8f8f8"/>
                </a:solidFill>
                <a:uFillTx/>
                <a:latin typeface="Arial"/>
              </a:rPr>
              <a:t>Think:</a:t>
            </a:r>
            <a:br>
              <a:rPr sz="6000"/>
            </a:br>
            <a:r>
              <a:rPr b="1" lang="en-US" sz="4400" spc="-1" strike="noStrike">
                <a:solidFill>
                  <a:srgbClr val="adb9c0"/>
                </a:solidFill>
                <a:latin typeface="Arial"/>
              </a:rPr>
              <a:t>Why do we need to know the weather conditions each day?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167004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16779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Measuring weather conditions helps people.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will know how to dress when they go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can plan outdoor activities or vaca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cientists can tell people to get ready for bad weather or a big storm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suring the weather conditions help scientists predict the weath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Cloud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40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447920"/>
            <a:ext cx="8534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are made up of millions and millions of small water drops or tiny pieces of 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give us clues about how the weather may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We will learn about these three types of clou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umulu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heap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These clouds look big and puffy like balls of cotto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hen these clouds start piling up and turn dark, they can bring a storm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0" r="0" b="20000"/>
          <a:stretch/>
        </p:blipFill>
        <p:spPr>
          <a:xfrm>
            <a:off x="5562720" y="1600200"/>
            <a:ext cx="29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819520" cy="1888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638680" y="4114800"/>
            <a:ext cx="2900520" cy="21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irrus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curl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These clouds are very high up in the sky. 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y look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thin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feathery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nd hold only a little bit of wat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 see these clouds when the weather is sunny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tratus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2800" spc="-1" strike="noStrike">
                <a:solidFill>
                  <a:srgbClr val="adb9c0"/>
                </a:solidFill>
                <a:latin typeface="Arial"/>
              </a:rPr>
              <a:t>stretched out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.  These clouds make the whole sky look dark and gray because they cover the sky and block the sun.</a:t>
            </a: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Stratus are low, gray clouds that usually bring rain or snow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0" r="20758" b="0"/>
          <a:stretch/>
        </p:blipFill>
        <p:spPr>
          <a:xfrm>
            <a:off x="5334120" y="1066680"/>
            <a:ext cx="3200400" cy="2686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0" t="0" r="0" b="10815"/>
          <a:stretch/>
        </p:blipFill>
        <p:spPr>
          <a:xfrm>
            <a:off x="5105520" y="4191120"/>
            <a:ext cx="3457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Preparing for Weather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listen to the radio and television for weather bulletin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ck a good supply of food that does not have to be cooke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re plenty of fresh wat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Make sure you have flashlights and extra batteries, candles are not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Be sure your pets are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ecure loose objects outside your hom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be calm and patient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862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Thunderstorm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A thunderstorm has rain, </a:t>
            </a:r>
            <a:br>
              <a:rPr sz="2400"/>
            </a:b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thunder, and lightning.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we see big, thick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dark cumulus clouds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e might expect thunder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and lightning to come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Lightning produces light and heat  -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the air is heated that quickly, it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xpand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bigger) and then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contract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smaller).  When the air expands and contracts, it creates an explosion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THUNDER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Lightning safet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Stay indoors away from doors and windows. Do not use the telephone. Take off head sets. 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Turn off, unplug, and stay away from appliances, computers, power tools, &amp; TV sets.</a:t>
            </a:r>
            <a:r>
              <a:rPr b="1" lang="en-US" sz="1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5" name="" descr="Go to fullsize image"/>
          <p:cNvPicPr/>
          <p:nvPr/>
        </p:nvPicPr>
        <p:blipFill>
          <a:blip r:embed="rId2"/>
          <a:stretch/>
        </p:blipFill>
        <p:spPr>
          <a:xfrm>
            <a:off x="5410080" y="129528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Tornado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tornado</a:t>
            </a: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 is a funnel-shaped cloud that spins very fast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has very strong winds that can destroy many hous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picks up debris or buildings by its swirling wind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Tornado safety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– Stay inside away from windows, doors and outside walls. Cover your head and body to protect yourself from flying objects.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764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adb9c0"/>
                </a:solidFill>
                <a:uFillTx/>
                <a:latin typeface="Arial"/>
              </a:rPr>
              <a:t>Changes in Weather</a:t>
            </a:r>
            <a:endParaRPr b="0" lang="en-US" sz="6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eath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what the air is like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warm or cool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sunny, windy, or cloud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re are four seasons during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1449360" cy="145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162920" y="4495680"/>
            <a:ext cx="1743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Hurricane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hurricane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begins over warm ocean waters and has winds that are more than 74 mph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It has strong winds, high ocean waves, and lots of rain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causes floods and destroys many hom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The hurricane season begins June 1 and ends November 30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Stay indoors, in the center of your home, in a closet or bathroom without windows.</a:t>
            </a:r>
            <a:r>
              <a:rPr b="0" lang="en-US" sz="26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308628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0" t="3368" r="0" b="0"/>
          <a:stretch/>
        </p:blipFill>
        <p:spPr>
          <a:xfrm>
            <a:off x="5257800" y="4038480"/>
            <a:ext cx="350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Blizzard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lizzard</a:t>
            </a: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 is a storm with heavy snow and strong wind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It is difficult to see outside during a blizzar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Blizzard Safety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: Stay indoors. If you go outside after the storm, wear layers of clothing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5" name="" descr="Pilcher  Blizzard Mar 2003"/>
          <p:cNvPicPr/>
          <p:nvPr/>
        </p:nvPicPr>
        <p:blipFill>
          <a:blip r:embed="rId2"/>
          <a:stretch/>
        </p:blipFill>
        <p:spPr>
          <a:xfrm>
            <a:off x="487692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ongratula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 have learned about the four seasons, the water cycle, three types of clouds, storms, and how to be prepared for weath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’re an expert weather watcher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REMEMBER TO ALWAYS BE SAFE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1979640" cy="157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1933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Resources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3"/>
              </a:rPr>
              <a:t>images.search.yahoo.co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5"/>
              </a:rPr>
              <a:t>office.microsoft.com</a:t>
            </a: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6"/>
              </a:rPr>
              <a:t>/clipart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7"/>
              </a:rPr>
              <a:t>http://soniacoleman.org/Tutorials/PowerPointTemplates/templates1.ht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warm, windy, and rai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rees begin to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arm air and rain helps plants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1. Spring begins in M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days are hot and sun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is is the warm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Leaves are green on tre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torms can make the weather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2. Summer begins in Ju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24480" y="2514600"/>
            <a:ext cx="2116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begins to get cool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leaves of some trees change colors and drop off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nts di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447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b9c0"/>
                </a:solidFill>
                <a:latin typeface="Arial"/>
              </a:rPr>
              <a:t>3. Fall or Autumn begins in Sept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cold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ces have snow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inter is the cold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any trees have lost their leav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52388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4. Winter begins in Dec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32958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adb9c0"/>
                </a:solidFill>
                <a:uFillTx/>
                <a:latin typeface="Arial"/>
              </a:rPr>
              <a:t>The Water Cycle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ater cycle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the way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wat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oves from the air to land and back agai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457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n’s heat makes water evaporate into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water vapor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609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vapor rises into the air, cools, and condenses into tiny droplets of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ops of water come together to form clou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drops become heavy and fall as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rain, sleet, snow, or h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5562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in falls or snow melts and flows to rivers, lakes, and oc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666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8195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Evaporation is when a liquid changes to a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19256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438280" cy="164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Cloud reflection"/>
          <p:cNvPicPr/>
          <p:nvPr/>
        </p:nvPicPr>
        <p:blipFill>
          <a:blip r:embed="rId4"/>
          <a:srcRect l="0" t="0" r="20598" b="37534"/>
          <a:stretch/>
        </p:blipFill>
        <p:spPr>
          <a:xfrm>
            <a:off x="6172200" y="380880"/>
            <a:ext cx="2133720" cy="136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34340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1600200" y="190512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 rot="13405200">
            <a:off x="7467480" y="556236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 rot="1942800">
            <a:off x="3047760" y="5105160"/>
            <a:ext cx="657000" cy="657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7086600" y="190512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81280" y="2133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ter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8305920" y="4038480"/>
            <a:ext cx="66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Meteorologist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eteorologist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re scientists who use special tools to measure, predict, and study weather condi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6668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6:03:53Z</dcterms:created>
  <dc:creator> Denise Carroll</dc:creator>
  <dc:description/>
  <dc:language>en-US</dc:language>
  <cp:lastModifiedBy> Denise Carroll</cp:lastModifiedBy>
  <dcterms:modified xsi:type="dcterms:W3CDTF">2005-08-08T05:28:34Z</dcterms:modified>
  <cp:revision>126</cp:revision>
  <dc:subject/>
  <dc:title>Title</dc:title>
</cp:coreProperties>
</file>